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30D0-B265-47C6-BB26-8D601D51B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B8CF-61AB-40B8-9DEF-D2D953FDE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F10A-9995-457E-A755-B199EA909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0575-306C-494E-A62F-F759A8439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811D1-227F-4D8C-9EEF-9C80AECFE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D0AA1-FBF8-4E53-86CD-75FD64F8E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F3A3D-6E6D-48A2-90E1-360C06FD3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43645-481F-4FE5-AB3E-DD3D5CBF7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1AE56-2022-4B4C-98B5-F8B9D09DE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197E0-5133-4344-9674-7C949CAD8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38089-E024-44E5-B4F1-E1221E5A6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3A19-B98E-42BD-A4C1-A5F088F7B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65F59-40B4-4768-BB18-2A2D75A16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E199F-94E3-4266-939C-91B47B6CA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659B1-EE2F-4C7C-A2DC-64DF90812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685CE-C51A-49D6-A1BD-54F6801F9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C5BE3-2CBB-4BC8-9779-EFAB5E59E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0D19-7F6C-42F2-90B8-FB03C6D03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11D6-9D2A-4FB0-9392-DD2DECB76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6009-4F98-4C96-846D-E0ABB471B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36A1-C510-40DE-9E72-DDEBC3E32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379C-641D-423D-896D-5AA3EE806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055F-CC28-4716-9CA6-A5B80B053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780F-9A8A-4491-B520-8349554C3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2FB0F-16C4-479D-8FEE-385172AA90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ECB19-65BF-459D-9AE6-B1D9C8ED48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2608200" y="69048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602080" y="546120"/>
            <a:ext cx="357624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Romance fronteriz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Abenámar y el rey Don Juan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-¡Abenámar, Abenámar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moro de la morería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el día que tú nacis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grandes señales había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estaba la mar en calma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la luna estaba crecida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moro que en tal ssigno na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no debe decir mentir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-No te la diré, señor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aunque me cueste la vida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porque soy hijo de un mor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y una cristiana cautiva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siendo yo niño y muchach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mi madre me lo decí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que mentira no dijese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2176560" y="112248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463840" y="692280"/>
            <a:ext cx="335124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que era grande villanía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por tanto, pregunta, rey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que la verdad te dirí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-Yo te agradezco, Abenámar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aquesta tu cortesí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¿Qué castillos son aquello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¡Altos son y relucían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-El Alhambra era, señor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y la otra, los alixares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labrados a maravill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El moro que los labrab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cien doblas ganaba al dí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y el día que no los lab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otras tanta se perdía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desque los tuvo labrad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el rey le quitó la vid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porque no labre otros t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al rey del Andalucí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745720" y="690480"/>
            <a:ext cx="356400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El otro es Torres Bermejas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castillo de gran valía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el otro Generalife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huerta que par no tenía-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Allí hablara el rey don Juan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bien oiréis lo que decí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-Si tú quisieras, Granada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contigo me casaría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daréte en arras y do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a Córdoba y a Sevilla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-Casada soy, rey don Juan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casad soy, que no vïuda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el moro que a mí me tie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muy grande bien me quería-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Hablara allí el rey don Juan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Estas palabras decí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-Echenme  acá mis lombardas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2818440" y="1122480"/>
            <a:ext cx="32011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doña Sancha y doña Elvira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tiraremos a lo alto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lo bajo ella se daría-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El combate era tan fuer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que grande temor ponía”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8T01:08:43Z</dcterms:created>
  <dc:creator> </dc:creator>
  <dc:description/>
  <dc:language>en-US</dc:language>
  <cp:lastModifiedBy> </cp:lastModifiedBy>
  <dcterms:modified xsi:type="dcterms:W3CDTF">2007-09-28T01:32:39Z</dcterms:modified>
  <cp:revision>2</cp:revision>
  <dc:subject/>
  <dc:title>Diapositiva 1</dc:title>
</cp:coreProperties>
</file>